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89809"/>
        <c:axId val="6601924"/>
      </c:barChart>
      <c:catAx>
        <c:axId val="12889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924"/>
        <c:crosses val="autoZero"/>
        <c:auto val="1"/>
        <c:lblAlgn val="ctr"/>
        <c:lblOffset val="100"/>
        <c:noMultiLvlLbl val="0"/>
      </c:catAx>
      <c:valAx>
        <c:axId val="6601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9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A26-9580-4DE5-85BA-B9781CDC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F11-28A8-4603-BF2C-E4AC96E4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FD5-E32F-4BB6-B903-CB5ECA02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8CD-B374-4080-84F9-09AA2C38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309-9DF2-4889-98C8-9811392F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6F9-557E-4E14-A5AC-A4FD046E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D35-4C5E-412A-818E-42DF77EA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B12-853F-416B-B502-DB19146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7FA-A1FF-4121-82CE-2208C907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5A4-5531-4CFA-9BBF-EB5FFF69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6C1-8AF4-4AA2-9D86-5747C15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981-A730-4623-A201-571A5C0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A4F69-0596-45CD-86BE-176B2181C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