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54116"/>
        <c:axId val="47828699"/>
      </c:barChart>
      <c:catAx>
        <c:axId val="29054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28699"/>
        <c:crosses val="autoZero"/>
        <c:auto val="1"/>
        <c:lblAlgn val="ctr"/>
        <c:lblOffset val="100"/>
        <c:noMultiLvlLbl val="0"/>
      </c:catAx>
      <c:valAx>
        <c:axId val="47828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54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9EA-B65C-4EF7-BAFF-1D3943C8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85A-D4E5-4A29-9E87-BF4DDD19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46D-28D5-4F17-97B4-0E61DDB2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1D1-D320-4942-AB2C-4BE78E6C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84F-2CD8-4569-8EA3-63A5004C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B0D-5BB5-4E81-ABBC-FF1A1EC7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3E4-1E3F-4131-9629-288AEE67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500-8625-41AF-8EF2-A88DB8FD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D12-556E-40CD-8BBA-6EB47D8B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CF5-86A5-4441-A647-33394AFC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EDD-AC5B-4A58-89F0-DF9F5DCF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FA1-E245-4134-8471-B268BBF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E6F66-A553-418B-A20E-68AECC1EAC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