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755905"/>
        <c:axId val="78322972"/>
      </c:barChart>
      <c:catAx>
        <c:axId val="267559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22972"/>
        <c:crosses val="autoZero"/>
        <c:auto val="1"/>
        <c:lblAlgn val="ctr"/>
        <c:lblOffset val="100"/>
        <c:noMultiLvlLbl val="0"/>
      </c:catAx>
      <c:valAx>
        <c:axId val="783229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559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23A0-079E-4C24-A227-3F5AA9FE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6531-8544-484E-976A-ECE95686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429E-C9B1-4BFE-8BF4-97286C8F6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DD94-F05D-40A6-A40D-44394F343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211D-CDE7-41B0-AB9E-E9049602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99B3-109D-4ECE-9C0E-917418BA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BCF9-1A0B-4554-A499-D6DFE4F1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0A6A-CFDB-4B6A-A3E7-02E8F812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5582-E30D-45DE-AA0D-086DE08D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783C-A758-4515-9BF8-29BC5128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AC84-E6EB-4099-8151-33125DE6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FEDC-6739-416C-9B92-2FD0CF81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A4984-3A1B-46C6-8ED9-F049B9E3B0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