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11974"/>
        <c:axId val="53411028"/>
      </c:barChart>
      <c:catAx>
        <c:axId val="72111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1028"/>
        <c:crosses val="autoZero"/>
        <c:auto val="1"/>
        <c:lblAlgn val="ctr"/>
        <c:lblOffset val="100"/>
        <c:noMultiLvlLbl val="0"/>
      </c:catAx>
      <c:valAx>
        <c:axId val="53411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11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EAF-767F-48B4-80EB-DE532629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E884-BA51-4A27-910F-D222EC41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CC8-053A-4C68-92CE-097F177E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45A-10C5-4F04-8F2E-4CA3259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3D9-16D5-42E7-BDAA-9ECFFC2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D3C-3B09-46ED-B57F-4E38350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D30-E926-4616-B6E5-CEBC5783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DC1-962F-4673-B1EE-56A7219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712-57E5-442E-A5D6-5137406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E47-A2D4-4791-B49F-E7427B97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0DF-7868-495E-9630-EED45BF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E8C-A6D5-480F-A461-78598E06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0C339-539F-4587-ACB4-AEDB9A243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