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81865"/>
        <c:axId val="49561370"/>
      </c:barChart>
      <c:catAx>
        <c:axId val="29481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61370"/>
        <c:crosses val="autoZero"/>
        <c:auto val="1"/>
        <c:lblAlgn val="ctr"/>
        <c:lblOffset val="100"/>
        <c:noMultiLvlLbl val="0"/>
      </c:catAx>
      <c:valAx>
        <c:axId val="49561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81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F88-4DFF-433B-827F-E8A6263E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A54-7C27-40FA-8C55-B5EEEE8A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0A2-6925-40BD-9E19-0549765A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A8D-0A82-455D-905D-553D30CE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6E3-D18C-4F6C-B0EB-D77CF43A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859-FC11-452E-A98C-D39CDD05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4E2-DA52-4CB5-84DB-71916699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34A-64DB-4E19-9D89-FE8DF02A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5D8-EC46-4D91-8330-A4873A04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93E-5FA7-49CC-A480-C6F63255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635-4E7B-4B0D-816B-9F90C21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DB6-81D1-44FD-9803-581800CF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88799-27F1-4152-AE13-C2F3B1C7B1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