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81522"/>
        <c:axId val="18871100"/>
      </c:barChart>
      <c:catAx>
        <c:axId val="28981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71100"/>
        <c:crosses val="autoZero"/>
        <c:auto val="1"/>
        <c:lblAlgn val="ctr"/>
        <c:lblOffset val="100"/>
        <c:noMultiLvlLbl val="0"/>
      </c:catAx>
      <c:valAx>
        <c:axId val="18871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1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4E1-4F84-4C8C-9068-65135419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A59-884E-448A-8927-6DB4EB1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033-42A1-458D-99CA-060372C9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58A-22F3-405B-A58B-9169A7D0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873-989D-4D51-AA0B-57EBDA7F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50A-916C-42FE-B38D-2B6D6DD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B66-8034-4148-B60B-BF74ED0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D7C-4A40-4379-B91B-025AB422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D87-66BB-435C-8630-6DAF4A94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990-3D3D-42CD-8041-C877987E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9AE-B2A9-4880-8D0E-29DC45F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7BB-BF5F-4AD0-A877-A790D46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C90D9-4F1C-480F-801D-38A63BD70D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