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234650"/>
        <c:axId val="23073497"/>
      </c:barChart>
      <c:catAx>
        <c:axId val="152346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73497"/>
        <c:crosses val="autoZero"/>
        <c:auto val="1"/>
        <c:lblAlgn val="ctr"/>
        <c:lblOffset val="100"/>
        <c:noMultiLvlLbl val="0"/>
      </c:catAx>
      <c:valAx>
        <c:axId val="23073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346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555-6ED9-4E9F-B342-009C9F742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327-F8B5-456E-80BC-C26A16F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F4B-C67E-46C8-BB73-958288D0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964-2F52-43CE-A0D7-570BE091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EF0-1424-410E-AA08-3F3B3FE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C97-AE2E-47EF-B48C-C2928981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EA4-1119-47D9-ADBF-3B39B481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5BC-3B41-4699-A3B4-79F4F20D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0A2-BCB8-49B0-B928-D3997D8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DA50-82DB-4731-8028-E62CD5B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7D4-AEFA-40FC-8362-FEAA549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27D-EB51-4438-9E5A-6D2F31DE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8BF0C-895C-4808-B2AB-78E9970AE7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