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04314"/>
        <c:axId val="25935405"/>
      </c:barChart>
      <c:catAx>
        <c:axId val="26104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5405"/>
        <c:crosses val="autoZero"/>
        <c:auto val="1"/>
        <c:lblAlgn val="ctr"/>
        <c:lblOffset val="100"/>
        <c:noMultiLvlLbl val="0"/>
      </c:catAx>
      <c:valAx>
        <c:axId val="25935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04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5E46-13F1-4E26-B175-FD0BE60B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70A-6E77-44B7-A427-52F8DF13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B6E-BD3E-44BE-BFDF-3C1B8781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C53-05F9-470E-8477-4AF339BE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5B12-1ADB-4163-8898-6BE3EB97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BBB-E42A-4455-9569-03C73914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79A-AFEB-4988-A036-CF798CDA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405B-A531-4C57-9E1A-F7CA412A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B4FF-67C9-4508-A113-6ED1555B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E1D-1B7E-471B-939F-8EF978A8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D37-7776-4E79-AB09-091A9BC1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C14-A5C9-4E36-9410-1787ECA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B5A10-EEA9-4A70-AE00-4A8185B42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