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81344"/>
        <c:axId val="30288674"/>
      </c:barChart>
      <c:catAx>
        <c:axId val="72381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88674"/>
        <c:crosses val="autoZero"/>
        <c:auto val="1"/>
        <c:lblAlgn val="ctr"/>
        <c:lblOffset val="100"/>
        <c:noMultiLvlLbl val="0"/>
      </c:catAx>
      <c:valAx>
        <c:axId val="30288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81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400-3D5C-4ED6-A808-BADACFEE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8A9-69D1-472E-8590-B12E6BD9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0BB-2E09-4E14-9886-40345BA9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410-B5E8-444A-8C97-78CFF3C4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745-DF9F-44EB-8883-34547C7D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445-40E2-477F-8560-94D1C87C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C24-6B41-4375-A944-0C5AEAD0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A82-7FE1-403A-9C8E-5FE15522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6A9-606E-4079-B9DF-BC13C0DD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D6D-00EF-4801-91BF-639E5975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623-CE1A-4294-AC71-371FFDF6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893-0F9F-4202-B5B9-0F8EC431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88008-01F0-404F-8F1C-99E474D665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