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64495"/>
        <c:axId val="29466796"/>
      </c:barChart>
      <c:catAx>
        <c:axId val="84064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6796"/>
        <c:crosses val="autoZero"/>
        <c:auto val="1"/>
        <c:lblAlgn val="ctr"/>
        <c:lblOffset val="100"/>
        <c:noMultiLvlLbl val="0"/>
      </c:catAx>
      <c:valAx>
        <c:axId val="29466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4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18B-9FF5-4947-8DA2-74C9F615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1B9-F211-4D1C-B74C-958DD577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8F1-1906-4F16-9656-7BBCA5F5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03E-817D-4CE7-8E52-D124F4F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B19-A673-40F3-89D0-D0B1BAD1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BE2-A222-400A-AEEC-B945C988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762-AB03-4438-BB50-DE2DA1AC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D7C-8F45-4A37-A4E4-62CA137D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210-D6BB-45F6-9E67-90F47ED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871-D6FB-416A-B05F-1FE90BF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01A-7097-430E-833D-8248082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CAE-6318-4A26-B7B9-C49DC55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614C4-6AFD-4BA7-92E7-8933A9E3B6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