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017597"/>
        <c:axId val="18237707"/>
      </c:barChart>
      <c:catAx>
        <c:axId val="750175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237707"/>
        <c:crosses val="autoZero"/>
        <c:auto val="1"/>
        <c:lblAlgn val="ctr"/>
        <c:lblOffset val="100"/>
        <c:noMultiLvlLbl val="0"/>
      </c:catAx>
      <c:valAx>
        <c:axId val="182377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175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BF18-3D30-411C-865E-A7F7AF69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FDCE-3BD6-46A5-94DA-4DECE8A0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7FAE-268A-48DC-A6FD-07478BA61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47D5-9294-43CC-AD68-4931A4D0C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276A-2F24-4D65-AA6E-D7F72C7F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7389-3DDE-46B9-AC74-BC10BF73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8350-7050-42C6-95C8-BDA18CC5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7783-C749-411A-A4BF-3EABABB1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3ABB-C7AB-4B98-B95C-9680EAE5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803E-4523-48AD-8563-15237722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C882-B897-4190-81A5-39B5B204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79CB-84E8-427E-9570-5EFA2F3E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E26BA-F2E6-4EA7-B613-48246AA84D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