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69361"/>
        <c:axId val="17108175"/>
      </c:barChart>
      <c:catAx>
        <c:axId val="901693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08175"/>
        <c:crosses val="autoZero"/>
        <c:auto val="1"/>
        <c:lblAlgn val="ctr"/>
        <c:lblOffset val="100"/>
        <c:noMultiLvlLbl val="0"/>
      </c:catAx>
      <c:valAx>
        <c:axId val="171081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693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A472-D8D0-4AAA-8579-ECB0C3B5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A30F-A860-42E1-9135-41041AF2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181D-7904-4A10-87B1-D541C82E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7BD9-32D8-4243-834D-259574EA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EFB3-984E-4941-8BA9-3249C882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ED40-6266-431A-804D-CAFAC2CB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873C-1B92-44D4-B584-CF467A80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87D-C538-49CA-9296-0EF1C55E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B006-B69D-40B5-A963-F53E81B0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C9A-0CA0-4C58-82EF-ACEE43B0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EAD5-0001-46A1-B04D-4CF12726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C8F9-9F40-4FBE-AEC0-07D0D831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4A745-1469-4848-B293-7F401B5C35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