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46161"/>
        <c:axId val="14020889"/>
      </c:barChart>
      <c:catAx>
        <c:axId val="54246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20889"/>
        <c:crosses val="autoZero"/>
        <c:auto val="1"/>
        <c:lblAlgn val="ctr"/>
        <c:lblOffset val="100"/>
        <c:noMultiLvlLbl val="0"/>
      </c:catAx>
      <c:valAx>
        <c:axId val="14020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46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19E-6793-4C2D-A6B8-08BAADA8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72B-A051-4AF6-B729-8F257787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D69-0A8A-46DE-86B5-B9D668B7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725-F868-404B-B80A-EE81ECC3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3F6-DF01-4A48-84EF-70109AF1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E4D-4A92-427B-BADB-B901A9EF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D16-29C9-4065-A808-39AC152D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DA4-39CA-4E1D-B6D2-83245794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069-9B3D-4BAB-976E-5C929470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E81-3F2C-44A9-A20F-C025D70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C43-2556-4125-A87F-9F6F6853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F17-5761-41A9-AD87-758277AE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4194B-3BC9-464A-BDDC-046F85AA50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