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493329"/>
        <c:axId val="99742682"/>
      </c:barChart>
      <c:catAx>
        <c:axId val="254933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42682"/>
        <c:crosses val="autoZero"/>
        <c:auto val="1"/>
        <c:lblAlgn val="ctr"/>
        <c:lblOffset val="100"/>
        <c:noMultiLvlLbl val="0"/>
      </c:catAx>
      <c:valAx>
        <c:axId val="99742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933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C197-F73E-40A8-9F48-6CDE827D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944-25F0-40E3-A38D-4416A4C9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835E-FB4D-4F0E-ACA5-4E44AF25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F48-29CD-4A84-ACE9-8F1E92EB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E64-06AC-454D-99D0-65F111C2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6C6-A1A9-4D46-84E2-2ACDA759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0FE-670D-4345-9CAF-AB925A49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7B39-CBF6-4400-A5CC-0E5E2124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46F-9E86-4518-AF93-88BD4F7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223-CC93-460C-A281-C437830D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B48-1796-4535-B9C3-5B86975B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543-06A5-40CC-AC3A-918756A4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72C6-D700-4EA2-BB71-CC2F431E12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