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5ADCF-7419-4A09-BF9F-35438FBF1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1E216-073C-4BA3-8CD1-43AAE8FFC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1424E-BF7D-4046-8001-2967A6342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C9D82-A252-440A-85A1-E46AEE7C3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FE55-6068-402B-B68E-B9206A7C7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CF7D-A9E0-4E42-9AF2-8BBC845A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EC7F-3255-451C-B516-7B970C2B2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10B2B-847D-490D-B1F6-2EDF7A7C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5C65-5EF4-49DF-B050-A7C7B48D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A197-51CB-4BAD-B90D-6F9F16A0D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28A4-BC08-49CC-84C0-FEDB3615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BC27-6BE8-486C-8E66-EA9DA606F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9F7BB8-42C3-4ADE-8DC0-CDE562678706}" type="datetime">
              <a:rPr b="1" lang="zh-CN" sz="1200" spc="-1" strike="noStrike">
                <a:solidFill>
                  <a:srgbClr val="898989"/>
                </a:solidFill>
                <a:latin typeface="Calibri"/>
                <a:ea typeface="Calibri"/>
              </a:rPr>
              <a:t>26/7/31</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C584FE-0CBD-4B47-8DF2-1BEE8A96D7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20D341-2878-49B4-B648-DD4B46312C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