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95460"/>
        <c:axId val="38704510"/>
      </c:barChart>
      <c:catAx>
        <c:axId val="41495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04510"/>
        <c:crosses val="autoZero"/>
        <c:auto val="1"/>
        <c:lblAlgn val="ctr"/>
        <c:lblOffset val="100"/>
        <c:noMultiLvlLbl val="0"/>
      </c:catAx>
      <c:valAx>
        <c:axId val="38704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95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7D8-64E6-4DDF-8479-AAF0DD13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399-C515-4DEB-9213-02BC5043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EF3-CD80-4C0F-9D91-AA066D20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E7AD-F7C8-45A2-997B-FDE3B35F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82E-1F9E-4262-8B8A-B4908AAF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7DC-24E3-459B-86E0-9BD3E36E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D2F-7D9A-47F8-82EE-211DE2A2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C28-B563-468A-8AF1-3F38B2FA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C5F-A9A2-493E-81AC-4D4842B0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2FF-4B2A-47D0-A06F-38103564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B7B-E5A0-4CC8-A731-57A0E097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041-4CDE-43CA-8921-13F9F61D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3A644-1432-4C91-A6CF-A0573938B5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